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E2DCB-3CA3-45FF-AFAE-2110F14EE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66ABE-E867-4CAE-8014-67985CE7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9487F-E4FF-4E75-9816-07AC816C6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E58-E51C-4B08-8C94-DC318932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19C-84BD-438D-BF63-AA8A9ADF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AADB4-150C-429C-97F5-E7024B4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639F2-3025-4D7E-844E-4FC32C6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503BF-3A00-42FA-BCC8-A58D34A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6966F-C90E-47FF-B665-B2160B1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8A30-62E3-4AF5-9807-C2089A5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03C00-3E4A-4F9F-8BBE-AEB80E27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B099D-B30F-410A-91FC-7FC9EE02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2742D-105F-4BA9-B4F1-FE9728ED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730BA-6412-4DD3-8C83-BFD7038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4914F-8441-43EA-A13C-FD25C473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767-A4DC-4E2F-90F1-6E46C719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94EFD-BD9F-4ECD-AC09-5293EDC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48681-752A-450A-9A37-96EA60B4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B9439-D9AF-4C6F-A840-693C56A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02072-FA06-4484-AC4B-A6EDB62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304D-D2E8-4E5E-A066-18926E0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B8A2-B75F-4F9B-8FBE-8112B64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2F402-6837-4A00-9E87-12A608E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E20BF-E9D9-4E2E-B2F3-EA087E0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717CC-79EC-4C94-9B1A-C4FED56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BFFC1-502A-44D1-9F19-68B4B91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2AD-AB11-4F2C-B802-0A370FD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CF248-9F7D-4343-88EA-C45C168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702EE-B73C-46AC-AF10-CCFB7994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6CBCA-1B37-401D-A95A-150ADCA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FCCE2-CC9E-40D5-BA6B-5C918AB0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EB1D1-8234-425E-9475-5E834F0C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E1EE-DDC8-4900-A99C-9594E20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6B76-4EB6-462C-B7F5-6A892CF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CD764-2898-4106-8491-E3B5FE5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C8613-DFF9-46E9-9B58-C67A58B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66BA-BE00-4FDA-B450-AD9E1AE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019-A8C2-4C41-9F18-A5AD7376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561D-76AE-4DAF-83B3-77F20D4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FCFA-9AF1-4013-808E-54ACCD96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4940-0C44-462E-8AA9-7637B284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C0063-B7FD-489B-B6E4-F27EFD69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1DC3C-E8C5-471A-841B-05D935B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50142-05B1-481F-9497-FB85C79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D7463-D51F-41F3-8A43-C57FC9E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7CC1-83C0-41DE-977A-56918E0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0B3D-B021-48E6-8BCB-07707E70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358E9-EC8F-46A0-95EA-4908F61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994B-85F6-4C01-82E9-0978DB1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1A785-9EB9-4BF0-A1CB-2A452A64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84A4-F67F-47B1-A0DD-F71C38EB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6B14E-C752-4923-9129-D2302A44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FBD62-D806-4D0B-91DA-5BE2E1B2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D7CBA-85FA-4D23-80E3-1DB0A15D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ECB5F-4063-424A-877C-B1B4D182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03198-7C78-4599-B60E-0AF1901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F42F9-8FC6-46AD-ABCE-227A613E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34932-15DE-4E63-BD09-90E3BF72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5A7C0-6AFB-4FA0-B33C-EFDE65C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7395-4A6D-4393-A96C-5480331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A35BC-21D2-40EA-B65F-99BBF30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9C739-E662-480C-AA71-6FF342B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B01D1-ECA7-4B6B-B3F9-FFBF7F0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9BCC8-E102-4480-B608-F6D5827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56E15-21C6-4A70-AD0D-451D058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A80EF-B30B-43E3-A84B-C4980133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5E73E-A428-4748-BBE0-028F54C7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C1A49-FCD7-4DFF-96A6-907F63BC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44F93-300B-4609-9E17-149690E4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BF983-EFD6-4280-B2B8-312537E4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F1E-D0F9-4E74-97D4-23FAA1B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0BE39-8355-4AFB-BFD9-9B98297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7C264-BB6F-44EF-BC6B-E8FA929F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F08DA-2CF1-4EFB-A11A-1D412EE0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484FF-F7FB-489B-94CF-3573CD2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BFD9A-9FB5-49CC-80CE-3C5BE94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ABE14-C6E5-43A6-988B-0B31217E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F87D6-FD30-41F7-9CE3-7A569FA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AC5D7-A10B-4875-81C4-158BB6B0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7B043-7410-4B23-8BB1-E5B29B0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3E3D4-C820-4367-94CE-A8C1074C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F90D-25EB-407C-9A2B-F5D2DB96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09855-0BD9-47F9-BFAC-F0F5B92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C205B-5341-4A5B-80B5-170026D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73C48-05A7-405B-A47A-13E2537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6E637-C875-4902-9894-B060E53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8A260-565F-4F7B-9D30-E3E6AC3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F3C89-9A28-438E-B470-25F61CEF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3CB39-C959-489A-AF87-EAEC15A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3F22C-C679-4B8A-B065-31640CE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AEC06-7004-4E82-AD84-7B31D9CD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C0413-A81C-47BC-9718-01091BD1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A905-6367-4B4A-8EC3-FCE5CCF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60FC6-C34D-4CF1-92B4-E84EBDCB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6195B-B985-40AA-B588-D479B80E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14E41-C762-4752-B1BC-3A6967A3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B442E-5167-40D5-8DE7-6312550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CECBD-B93A-4881-B772-562FE229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FE039-67CB-404B-8D4B-5AD0290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94468-E852-426B-9F98-7D0CAC0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1C143-A1F4-4A98-BDD3-79AEF1E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3F96E-F661-41D3-988F-1A46734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C0162-6749-4882-9937-7F25CB0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1296-043B-4930-B4DE-CE7CA80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5627E-5688-4CED-A1FD-DEBD44D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641C4-0A31-48FA-A32D-1D1A1D5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EA792-8516-4564-B3E8-13EB29BF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7A260-3820-409D-BAF7-EF8C87F7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27C53-F0BB-427D-B808-62DCC721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DA6B7-6260-439D-9F92-79911F5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372CC-730A-4FAC-929C-1F66208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6FFB1-579F-48F8-8C37-DB49503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86C8B-D1A9-43F6-BC71-79EEAF3D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F8B47-8C45-475B-ADF0-92CDA16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4C0-7031-49A5-B881-B1FF47F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D609-BFDB-4882-88DC-CFC891D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AE38D-E32B-416D-B353-B9C4C07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D82AA-EA59-4B6B-BC22-7AC2AF0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5FAC8-32E9-489E-BE08-12A02E3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39116-DBBF-4126-AE03-FAA48C49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30122-E4F3-4AD9-87F2-8FD01AC7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083-0C76-4EA6-8B27-F0D03B1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6618-44D8-43C3-BC44-DFA1129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FA2D-2E7D-4A80-8D03-838D610A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C887-84D6-47BA-A8B3-8897493C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C228-DE6C-466D-848B-F0DFF55D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9D35-7FFD-426C-B6E8-5C74093E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AF26-850E-4B29-AF6E-F8C73AAE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3FA9-9F9D-46B3-BBD2-7A3F8305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BC7A-BEAA-41BA-A45C-DD270304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457-7AA4-4AB7-AB5D-FE38682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6FFC-1AC1-4AF0-9E55-9F93C796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86B8-360E-4F75-9F4C-A07AA26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FDED-EC76-460E-B25E-47A72F7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6B9B-AD1A-409F-8B27-2C0B723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7119-15C0-4423-8DCA-573FA5D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61DF-47C2-4D66-8F6C-85D865C4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DCC5-B488-4AFB-9AE6-00508959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720A-967B-4893-82E7-DD8F7F54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0568-9759-4AF0-ABB9-1353ED6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BC89-3012-4FB0-A959-9E374E9A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39C-3C2B-4BC9-BE9E-5CF11690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9B26-6E93-47E0-9292-6789431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A556-D8A9-446A-AB76-000BA88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CA06-D646-4608-83D5-785B78F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3D8D-F7E1-4B1D-A03C-76B5A8DC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4B3C-CEB2-4ECD-8125-1998A67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CF4A-AC73-47B9-95DB-137C569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19DC-E876-488F-82D4-0E2B911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9A26-240C-474B-AF74-E3FDC921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66FE-B783-4565-A139-BE4D087C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4392-FF92-4B05-B90F-4E2A04A0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3B7-FD1A-44A4-AFA1-EF3BB836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C1B4-7E3C-4736-AF8D-97AA0C4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32E2-135B-4F8F-9ECB-54E858C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EADB-B679-44FC-BDDB-16B38CF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FBEC-F93C-4633-987A-3E8C22D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2B52-D448-4CAD-BC7A-36C4EBD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8F9A-77E0-4035-B5A2-A79B803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AE16-CC90-46E8-8C89-0652826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C8CA-82DB-4983-89B6-E39E1B0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95C1-68D9-4A0F-B1B4-E500B59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B5211-4919-41B7-8DEF-58D242E0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5B8-473D-4EB0-9B71-EB7865E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2C32-FA35-4CFA-BBCB-CAED3938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7E3A-19BD-4867-9CCE-98AA17D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4EA9-0712-452E-A8FA-2B29CF0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4821-2D33-4ABC-80DC-AF6CBB25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D0BD-CC1F-46A2-802D-46BF971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B2C7-2729-47B8-BB5B-6AA0B70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0111-56CB-4DEE-A466-41C95438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7976E-8856-4132-930C-E3B2F55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C1C3-BDBE-4753-A21E-C55E032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F7390-1AED-41EB-A009-3CB2F5F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ECB-EE6A-46A5-927D-F04C0B4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6F60-1BEA-4C59-861E-ADADA9F1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72F8-6430-4C83-BC5A-D171894D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1E41-42BA-4D18-B150-B7971D11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2492-C1CD-496F-AAF2-1B9E2E49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3F49-3A6E-437F-A990-6104215B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7356-A303-47D5-AA65-E3B9264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B18A-99F0-4324-9662-81E6494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6AD2-9D58-4672-9BE1-B2DE2FCF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25D2-5267-4DC3-80A4-DA1B0522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4B3F-A80A-4A53-9CBD-5CCD459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D50-4511-4A4B-9F80-5968089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1FEF-322A-4564-B364-19C04D3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0097-4183-481F-94E2-439FF0A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6746-B4C5-4821-ABF7-18977E1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577E-DAF9-463A-914F-147BADC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3144C-A2F4-4B5F-B38D-1DA932C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014E-32BF-4CC4-B095-432D34EE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8DD3-B96B-4B49-A20C-4F6F68A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C8F3-9C86-4867-B8A5-37F1B3DA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5858-5B60-4E20-B75A-021407D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8A37-BA47-4A47-831A-26E9699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A89-81AB-4D34-BDB7-DFF1CBD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AEC2-C919-4401-B82A-04C4FE9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59EE9-286F-4A00-8354-47EC902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60C8-3DC8-49DD-8FF4-3024892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655A2-82D6-479F-9C4C-03A3A85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AA1E3-B773-46E7-98C8-43643E8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6618-03AE-474C-A28A-7E64FD0D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A9E2D-50D2-4707-BC4E-0976FE93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4979B-C4ED-4C42-9689-09B3F3B3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87BF-62E8-4791-B792-176E58A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F75D4-105B-4830-B339-9569833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57CAB-53C2-4F04-A2E5-76B85BD032A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532F8-031C-4E88-BB27-874122D7513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D30A8-1E22-49BF-B048-00E649E0B51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E9F57-B52C-49D1-9DFF-B9FDA07C473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3BF78-E013-44BB-8178-2B49153B311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A3689-5590-4D3C-983B-5F69F83E521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47138-FAF1-4068-8D6F-46C57E1F29A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3A921-A440-4C90-A853-7005478033D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5CA28-86BE-4011-BAC9-687F683AF17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497AF-D635-447B-9B84-DF6492FE6C9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339EC-2C0E-4CCF-BD54-310297AFBDE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98B77-192E-445C-97E7-C7B092B5F0A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2BBFE-B24B-4D64-BBF6-C49F7744425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8D0C-4B76-4B50-A81D-12DF5F5972B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41781-D999-482B-A2AC-01A984E68B2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0E507-7CAC-4B4F-8502-609CEC03E3E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0E16D-48FA-4043-9BA5-DA4503D2713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ACB1B-67F1-403C-B111-08F85B7D0E7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AD4C5-7D5C-4D6C-88BD-1B0B678FAF4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9E4D2-52E1-4810-966F-972E767EC54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BE403-C2D1-4531-82E1-571DAE35AA5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7E59-9459-4C67-A441-436C7A0525A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11965-5299-4759-A3F1-FC16C279072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D4780-249F-436A-BB9F-C3FE538AB9A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87D8E-ADFF-4D23-A0A6-ADEB6BE0313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D938-221C-44EC-97E4-FEACADDC72D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0533C-9064-4022-9787-4B981155B9D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78D19-0161-4505-834C-201BA9A5024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59D23-5EDB-4B31-A2F7-44499C5045E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3EA60-46A9-440D-946C-5F36E07EAC1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8D646-C7EA-4971-9329-421D68FB7AF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38133-6DF2-425C-A07B-E01ACA6EDDD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75FA4-49E9-4B82-AFA7-9369274F52C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61007-12BE-4AA5-B87A-ADD9EFF2982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4: Representation in Comics: McCloud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 Tak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88" name="Picture 1" descr="mccloud_head.jpeg"/>
          <p:cNvPicPr/>
          <p:nvPr/>
        </p:nvPicPr>
        <p:blipFill>
          <a:blip r:embed="rId1"/>
          <a:stretch/>
        </p:blipFill>
        <p:spPr>
          <a:xfrm>
            <a:off x="304920" y="22082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norules.jpeg"/>
          <p:cNvPicPr/>
          <p:nvPr/>
        </p:nvPicPr>
        <p:blipFill>
          <a:blip r:embed="rId2"/>
          <a:stretch/>
        </p:blipFill>
        <p:spPr>
          <a:xfrm>
            <a:off x="4727520" y="2943360"/>
            <a:ext cx="3738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ypes of Moment Chan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ment-to-Mo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tion-to-A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bject-to-Subjec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cene-to-Sce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spect-to-Aspec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n-Sequitu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1" descr="image007.jpeg"/>
          <p:cNvPicPr/>
          <p:nvPr/>
        </p:nvPicPr>
        <p:blipFill>
          <a:blip r:embed="rId1"/>
          <a:stretch/>
        </p:blipFill>
        <p:spPr>
          <a:xfrm>
            <a:off x="198288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Differences in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presenting Mo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rth American/European comics vs. Japanese - content analysis shows different ratios of moment transi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xperimental comics also break with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tandar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North American ratio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losure differs with each approach, as does the amount of moment transi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focus reader’s attention on particular elements, creating sense of place, position, focu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ilar to other visual media (e.g., film, photography) - panels as designed, not accidental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ven more so in comics perhaps – drawing as a deliberate ac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raming elemen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mera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angl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Lighting (or lack thereof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oseups vs. wide shot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istance and perspectiv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ymmetry and centering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e 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gutter</a:t>
            </a:r>
            <a:r>
              <a:rPr b="0" lang="ja-JP" sz="26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– presence/absence, shape, colour affect both what is seen and transitions 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ma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268880" y="2133720"/>
            <a:ext cx="4589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iconic, symbolic medium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comics deliberately leave details vague to encourage reader participation in closure – e.g., our ability to see human faces everywhe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7" name="Picture 1" descr="McCloud_self-portrait_7785.gif"/>
          <p:cNvPicPr/>
          <p:nvPr/>
        </p:nvPicPr>
        <p:blipFill>
          <a:blip r:embed="rId1"/>
          <a:stretch/>
        </p:blipFill>
        <p:spPr>
          <a:xfrm>
            <a:off x="312840" y="2133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3" descr="Understanding-Comics_026.jpeg"/>
          <p:cNvPicPr/>
          <p:nvPr/>
        </p:nvPicPr>
        <p:blipFill>
          <a:blip r:embed="rId1"/>
          <a:stretch/>
        </p:blipFill>
        <p:spPr>
          <a:xfrm>
            <a:off x="4981680" y="1001880"/>
            <a:ext cx="3741480" cy="55512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1628398-2682755607_ed2373fc9e_o_super.jpeg"/>
          <p:cNvPicPr/>
          <p:nvPr/>
        </p:nvPicPr>
        <p:blipFill>
          <a:blip r:embed="rId2"/>
          <a:stretch/>
        </p:blipFill>
        <p:spPr>
          <a:xfrm>
            <a:off x="289080" y="722160"/>
            <a:ext cx="46926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mage elemen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Level of detail - photorealism vs. iconography and effects of each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The role of icon in comics - simple comics evoke interesting emotions (e.g., Peanuts, Mutts)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Relation between background and foreground characters - (e.g., iconic characters and realistic background, e.g., Hergé’s Tintin)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Expression (especially facial expression) and body languag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ound as imag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7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Role of colour – colour as symbol and accent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or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ix visual and literal forms, arguably more so than other visual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 picture might equal 1000 words, but words can quickly contextualize and represent pictures in various way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rds as sound effects – representation of aural channel in literal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ord/image interpla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Word specific 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mage specific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uo specific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Additive/intersecting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nterdependen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rallel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ontage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90800" y="2133720"/>
            <a:ext cx="5067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ext week: cancell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ptional in-class assignment: participate in election day (how to do it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assignment due Oct 13 now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92" name="Picture 3" descr="DSC_0051.JPG"/>
          <p:cNvPicPr/>
          <p:nvPr/>
        </p:nvPicPr>
        <p:blipFill>
          <a:blip r:embed="rId1"/>
          <a:stretch/>
        </p:blipFill>
        <p:spPr>
          <a:xfrm>
            <a:off x="415800" y="2031840"/>
            <a:ext cx="29386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low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omics as sequential art - sequence of images becomes important in representation of time (e.g., photo of family gathering and reaction example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oment, frame, image, word choice work together to create (or sabotage) flow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How much of flow to show?  Example of multi-panel comics on drunk driving - different stories are told, even with same beginning/ending point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low concer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ultural norms (e.g., North American/European - left to right – manga flows differ, require instructions for non-regular readers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ce of transitions - Japanese comics and graphic novels spend more time for fuller exposition and slower moment change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Breaking norms (experimental comics)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xtent to which creator guides flow - hot vs. cool again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 quick first note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Analysis done by application of all rules = rambling and superficial in 5-7 pag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Your job = critical analysis – what’s important and why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Consider your comic as a designed text – everything is likely there for a reason. 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Your own perspective is acceptable – but not opinion as much as reasoned argumen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Outside research not explicitly necessary – but does it ever really hurt?  (e.g., guessing what an author might intend by choice of style is one thing – quoting her/him is another!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" descr="mccloud-uc-triangle.jpg"/>
          <p:cNvPicPr/>
          <p:nvPr/>
        </p:nvPicPr>
        <p:blipFill>
          <a:blip r:embed="rId1"/>
          <a:stretch/>
        </p:blipFill>
        <p:spPr>
          <a:xfrm>
            <a:off x="88920" y="0"/>
            <a:ext cx="89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Sequential 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Historical emergence as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astard chil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of words and picture dual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icture plane – representations of iconography, text and realism a nice breakdown of potential options with a good selection of cases – but why is the question to ask there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3" descr="1628399-mccloud_understanding_comics_super.jpeg"/>
          <p:cNvPicPr/>
          <p:nvPr/>
        </p:nvPicPr>
        <p:blipFill>
          <a:blip r:embed="rId1"/>
          <a:stretch/>
        </p:blipFill>
        <p:spPr>
          <a:xfrm>
            <a:off x="743040" y="1468440"/>
            <a:ext cx="76197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Art Form (Six Steps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Idea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Form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Idiom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tructur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Craft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Surfac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8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tantia"/>
              </a:rPr>
              <a:t>Consider your analysis in same way – surface analysis = surface comics.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Representation in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ra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ma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low (McClou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2006 work, Making Comic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o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438000" y="2133720"/>
            <a:ext cx="5419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ust represent transition among time visually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must guide the reader’s sense of closure (i.e., leave the reader to fill in the gaps of the sto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aturation vs. interpretation similar to hot vs. cool media - comics generally as cool mediu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05" name="Picture 1" descr="tumblr_l2q8e3rNdS1qban49.jpeg"/>
          <p:cNvPicPr/>
          <p:nvPr/>
        </p:nvPicPr>
        <p:blipFill>
          <a:blip r:embed="rId1"/>
          <a:stretch/>
        </p:blipFill>
        <p:spPr>
          <a:xfrm>
            <a:off x="382680" y="1832040"/>
            <a:ext cx="305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09-29T19:09:13Z</dcterms:modified>
  <cp:revision>28</cp:revision>
  <dc:subject/>
  <dc:title>CCT 300: Critical Analysis  of Media</dc:title>
</cp:coreProperties>
</file>